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13.png" ContentType="image/png"/>
  <Override PartName="/ppt/media/image7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5A22B-B913-4DD1-9B85-CAEA5D2E1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0DCA5-4F35-44A8-AC0D-0CBBFAA0C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A03D3-CBEA-4219-9DE4-AAE9DA768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FF1BC-0EBB-4DDC-9CBE-89D124FE9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86B61-13E8-4ED7-AA76-ADD2E655A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6A1AE-8C42-4204-85FD-10BA609DB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48A5E-43D8-433E-B51F-16543E039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58291-1734-4CAE-9A8C-86A4BD7A0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B9D2E-1AA7-4486-B158-FB6BEACC3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3D73C-58CB-4D07-BDD0-D2F009F8D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539FD-3B13-42FA-BA34-2C08AC70F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FA61D-FCB3-4243-877A-8F4C8B4BA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A72FF-ED5E-43ED-8A1F-82C629DCC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62AC5-2FB6-41F9-BDEB-48414E258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9B4C5-A2C1-486F-93D7-5ABFBE5A1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7D48B-0690-40B8-89FF-E824CB3C4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E1D64-45AC-4EE8-834D-E8B4041A7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9E6A4-6992-4A54-9497-69FDDA489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9BD93-3222-40A4-A9C6-A72B1E026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A66C4-C8CB-48B7-AF6F-BEBD2865B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D8C7C-880D-4C21-B181-977BB4275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3E03F-97F8-444B-AEC3-B060473E8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C6F06-F35E-46CE-9F87-4A2A12F47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439A5-678E-4F27-AE87-B39AEF398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920" y="1636560"/>
            <a:ext cx="9148680" cy="4618080"/>
            <a:chOff x="-7920" y="1636560"/>
            <a:chExt cx="9148680" cy="4618080"/>
          </a:xfrm>
        </p:grpSpPr>
        <p:pic>
          <p:nvPicPr>
            <p:cNvPr id="1" name="ARTHSEPA" descr=""/>
            <p:cNvPicPr/>
            <p:nvPr/>
          </p:nvPicPr>
          <p:blipFill>
            <a:blip r:embed="rId3"/>
            <a:stretch/>
          </p:blipFill>
          <p:spPr>
            <a:xfrm>
              <a:off x="5997600" y="6180120"/>
              <a:ext cx="3143160" cy="7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Arthsepa" descr=""/>
            <p:cNvPicPr/>
            <p:nvPr/>
          </p:nvPicPr>
          <p:blipFill>
            <a:blip r:embed="rId4"/>
            <a:stretch/>
          </p:blipFill>
          <p:spPr>
            <a:xfrm>
              <a:off x="-7920" y="1636560"/>
              <a:ext cx="449568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10848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14580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2DFA4-EDDF-4AFA-A6C9-7462D4D8159E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9144000" cy="3365640"/>
            <a:chOff x="0" y="0"/>
            <a:chExt cx="9144000" cy="3365640"/>
          </a:xfrm>
        </p:grpSpPr>
        <p:pic>
          <p:nvPicPr>
            <p:cNvPr id="45" name="ARTBANNA" descr=""/>
            <p:cNvPicPr/>
            <p:nvPr/>
          </p:nvPicPr>
          <p:blipFill>
            <a:blip r:embed="rId3"/>
            <a:srcRect l="8126" t="0" r="0" b="0"/>
            <a:stretch/>
          </p:blipFill>
          <p:spPr>
            <a:xfrm>
              <a:off x="0" y="0"/>
              <a:ext cx="91440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Arthsepa" descr=""/>
            <p:cNvPicPr/>
            <p:nvPr/>
          </p:nvPicPr>
          <p:blipFill>
            <a:blip r:embed="rId4"/>
            <a:stretch/>
          </p:blipFill>
          <p:spPr>
            <a:xfrm>
              <a:off x="4267080" y="3268800"/>
              <a:ext cx="449604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35916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601956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125280" y="6361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B9E13-8458-4C6E-96E8-90DE5458F63C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17160" y="475920"/>
            <a:ext cx="863748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00"/>
                </a:solidFill>
                <a:latin typeface="Pristina"/>
              </a:rPr>
              <a:t>Wednesday Wonders</a:t>
            </a:r>
            <a:endParaRPr b="0" lang="en-US" sz="6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6248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10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cc"/>
                </a:solidFill>
                <a:uFillTx/>
                <a:latin typeface="Pristina"/>
              </a:rPr>
              <a:t>Entrance task</a:t>
            </a:r>
            <a:r>
              <a:rPr b="0" lang="en-US" sz="4000" spc="-1" strike="noStrike">
                <a:solidFill>
                  <a:srgbClr val="ffffcc"/>
                </a:solidFill>
                <a:latin typeface="Pristina"/>
              </a:rPr>
              <a:t>: Think –why did the industrial revolution spread at different rates in continental Europe?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10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Pristina"/>
              </a:rPr>
              <a:t> </a:t>
            </a:r>
            <a:r>
              <a:rPr b="0" lang="en-US" sz="4000" spc="-1" strike="noStrike" u="sng">
                <a:solidFill>
                  <a:srgbClr val="ffffcc"/>
                </a:solidFill>
                <a:uFillTx/>
                <a:latin typeface="Pristina"/>
              </a:rPr>
              <a:t>Today</a:t>
            </a:r>
            <a:r>
              <a:rPr b="1" lang="en-US" sz="4000" spc="-1" strike="noStrike" u="sng">
                <a:solidFill>
                  <a:srgbClr val="ffffcc"/>
                </a:solidFill>
                <a:uFillTx/>
                <a:latin typeface="Pristina"/>
              </a:rPr>
              <a:t>:</a:t>
            </a:r>
            <a:r>
              <a:rPr b="1" lang="en-US" sz="4000" spc="-1" strike="noStrike">
                <a:solidFill>
                  <a:srgbClr val="ffffcc"/>
                </a:solidFill>
                <a:latin typeface="Pristina"/>
              </a:rPr>
              <a:t> </a:t>
            </a:r>
            <a:r>
              <a:rPr b="0" lang="en-US" sz="4000" spc="-1" strike="noStrike">
                <a:solidFill>
                  <a:srgbClr val="ffffcc"/>
                </a:solidFill>
                <a:latin typeface="Pristina"/>
              </a:rPr>
              <a:t>The Industrial Revolution spreads to the continent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10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cc"/>
                </a:solidFill>
                <a:uFillTx/>
                <a:latin typeface="Pristina"/>
              </a:rPr>
              <a:t>Homework</a:t>
            </a:r>
            <a:r>
              <a:rPr b="0" lang="en-US" sz="4000" spc="-1" strike="noStrike">
                <a:solidFill>
                  <a:srgbClr val="ffffcc"/>
                </a:solidFill>
                <a:latin typeface="Pristina"/>
              </a:rPr>
              <a:t>: Ch. 22-3 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89" name="factory%20worker" descr=""/>
          <p:cNvPicPr/>
          <p:nvPr/>
        </p:nvPicPr>
        <p:blipFill>
          <a:blip r:embed="rId2"/>
          <a:stretch/>
        </p:blipFill>
        <p:spPr>
          <a:xfrm>
            <a:off x="6400800" y="2133720"/>
            <a:ext cx="236232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rcRect l="9376" t="6251" r="9376" b="3125"/>
          <a:stretch/>
        </p:blipFill>
        <p:spPr>
          <a:xfrm>
            <a:off x="685800" y="228600"/>
            <a:ext cx="792468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Crystal%20palace%202" descr=""/>
          <p:cNvPicPr/>
          <p:nvPr/>
        </p:nvPicPr>
        <p:blipFill>
          <a:blip r:embed="rId2"/>
          <a:stretch/>
        </p:blipFill>
        <p:spPr>
          <a:xfrm>
            <a:off x="533520" y="304920"/>
            <a:ext cx="3538440" cy="3538440"/>
          </a:xfrm>
          <a:prstGeom prst="rect">
            <a:avLst/>
          </a:prstGeom>
          <a:ln w="0">
            <a:noFill/>
          </a:ln>
        </p:spPr>
      </p:pic>
      <p:pic>
        <p:nvPicPr>
          <p:cNvPr id="92" name="Crystal%20Palace" descr=""/>
          <p:cNvPicPr/>
          <p:nvPr/>
        </p:nvPicPr>
        <p:blipFill>
          <a:blip r:embed="rId3"/>
          <a:stretch/>
        </p:blipFill>
        <p:spPr>
          <a:xfrm>
            <a:off x="4343400" y="2895480"/>
            <a:ext cx="459900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hart interpretation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28680" y="1941120"/>
            <a:ext cx="8208720" cy="316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In groups, examine the charts relating to the industrial revolution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List 3 conclusions that may accurately be drawn from this information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Is there any info that seems contradictory?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2"/>
          <a:srcRect l="11999" t="0" r="14998" b="23335"/>
          <a:stretch/>
        </p:blipFill>
        <p:spPr>
          <a:xfrm>
            <a:off x="838080" y="228600"/>
            <a:ext cx="7315200" cy="57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2"/>
          <a:srcRect l="4998" t="832" r="8999" b="24665"/>
          <a:stretch/>
        </p:blipFill>
        <p:spPr>
          <a:xfrm>
            <a:off x="304920" y="609480"/>
            <a:ext cx="8229600" cy="53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2"/>
          <a:srcRect l="2518" t="11189" r="7714" b="38002"/>
          <a:stretch/>
        </p:blipFill>
        <p:spPr>
          <a:xfrm>
            <a:off x="533520" y="685800"/>
            <a:ext cx="8153280" cy="346068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2"/>
          <a:srcRect l="1998" t="2003" r="5999" b="40667"/>
          <a:stretch/>
        </p:blipFill>
        <p:spPr>
          <a:xfrm>
            <a:off x="380880" y="1295280"/>
            <a:ext cx="8229600" cy="384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2"/>
          <a:srcRect l="8002" t="0" r="11999" b="24003"/>
          <a:stretch/>
        </p:blipFill>
        <p:spPr>
          <a:xfrm>
            <a:off x="1066680" y="304920"/>
            <a:ext cx="7086600" cy="50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2T13:49:51Z</dcterms:created>
  <dc:creator>Computer Services</dc:creator>
  <dc:description/>
  <dc:language>en-US</dc:language>
  <cp:lastModifiedBy>Computer Services</cp:lastModifiedBy>
  <dcterms:modified xsi:type="dcterms:W3CDTF">2006-12-13T17:09:36Z</dcterms:modified>
  <cp:revision>3</cp:revision>
  <dc:subject/>
  <dc:title>Tuesday Tidings</dc:title>
</cp:coreProperties>
</file>